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0C6-2809-486A-BF39-1CB2FF94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E784-BE0F-4038-8E9E-50584FFF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E2A3-8583-42EB-8996-BECCAE8C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8EB-D4D3-4147-B1A4-9CD997F5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DF49-6FCB-419B-B5AE-2786A0B2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5EBF-0AAE-4972-A770-41AE1E3E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38F3-7019-4701-BADA-85A83F4C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2109-00D0-4053-8808-A350FCFD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6B8F-B677-4AAF-AF47-D48C9C3D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4D73-1EE4-466A-8858-62F0E699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BC4F-CC60-48C5-BF29-30AA71D5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A7E-F0B6-4A0B-8DAE-52E5C9AC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9110-F99E-4A54-AC76-396B1B10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90D5-E57C-4111-B7E3-0852578E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883A-515C-4EBD-BA92-9630B4BC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9179-E151-4881-A703-1FAD3CE4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5E40-F173-483B-AC5C-CBA9A160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5026C-C2CB-4806-BB4C-9E3894C4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FABC4-2456-4226-8106-D6C1E92D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067DA-6E15-4111-B016-8C482A3B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A7EED-DB69-4E87-AD2F-327E04C3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55014-F814-4DC4-982F-B131125A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4FA4-855E-459E-9980-1051A87E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ED593-7B80-42C8-BB6C-E6E0D496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38680-1F8C-4F28-9CE6-E2684626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11570-ACEA-49A7-9971-CA072860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0CECC-0DEF-4494-880E-57CD03F4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04BA6-6031-4340-87FE-0A355F7C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89A99-9997-436C-BA92-D2F2E4D4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69EB8-988F-40B8-8583-B42F811B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E4D8D-6207-41F9-9D79-9CA8816E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22AA3-E05F-4912-A001-D61E0A05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C396C-E83A-4A9C-8209-52E0B649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48D-C92A-4C80-AD3F-E7FE9B19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EC8F2-A3D9-4958-888B-E88AD7D4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65C9D-7068-434A-8D90-B44933EF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C2D2F-B562-4735-8A3E-9C8B08D1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034B2-54CE-4B16-9D28-561C270F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FDC9E-B512-4893-9F03-2DFB6759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9738B-8DA1-4439-97B0-CF1FBC8A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55B8E-6A05-4949-8E82-4E6B645F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289B2-6ADE-475F-89E9-E1AF4777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BC0D7-FFD1-4A96-9E0D-9F49C363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9E1EE-0C83-47F8-95B1-87E4AA01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3CDC-7025-43A9-8A9E-A5CFBBC6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6972B-27B3-4658-923D-11CA5C38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4FFE8-3247-45B4-89E9-CB6EE465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8D943-1224-43B8-8BE8-6FCA5A8D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F1E5C-3011-4E72-857C-90638E30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2D150-3380-485D-87C5-7DA91CB8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E1FD1-4611-45B6-9FF7-BB9AB9A2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C679D-BB90-4A75-9FF5-9B26F460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6E7DA-2354-4220-A899-F634E5B7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858D9-FFD4-4CEA-8635-CA6CB0E3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8CA0E-08D0-4988-AA27-A6571883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136-A31C-44AE-B661-948B413E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880C1-B3F3-45BB-A6B8-EE739FAF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33FD7-0BE4-46A0-A3D5-D386BDF9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62A5E-DD65-41C4-AF3D-C58D72FC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EAF60-1F3A-4803-8341-D3E0CD7F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49D8C-9D68-4CF8-A98E-42DEBB7F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6071B-75C5-480C-ACB9-51E32D8F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2698D-9F7F-48D8-8294-1CCF22C2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792CB-E5B3-42E2-8C1D-DE6CAD96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3F447-6B36-4565-B420-F823B96D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C2662-AB0A-4060-AFD6-521A4BB6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2AF2-A52E-49FE-B136-A8B7D1F2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E7256-280D-493D-AAF1-6FD79AA7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A8321-9E96-48BA-A4A3-FD4A6C71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9A0AA-5DF0-4E3F-AFF5-7EBBCEAB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29947-1FDE-477E-AA0A-E81D8539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1BB72-D89E-432E-9666-397A775C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FB706-8DD9-40A3-B39C-B7E2825C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FE939-04D0-40C9-80E4-021EFAD6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FD737-6A4B-4500-8F12-518DB96B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E90F5-81BE-4FB0-BE66-4A27474B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7E94A-C01A-4C00-B798-A6FCCBDB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509-9CDA-4C3D-B080-A9C7464B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2C2A6-5CAF-4FF5-A695-803B68F8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7C663-F69E-4E57-AE3C-1F760AB4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2FFCC-2163-4EE5-AD3B-8EE3AE5E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54BF1-66F5-4D14-A011-BE0077EF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768D3-6A8B-4FAF-BA4F-DC131515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5E6-220A-4CCA-A273-92BD1FAC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4226-FB83-4A3A-BBCD-7EEAD58A363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2C1F-E61C-4BE5-A9C0-21A7B6F7812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6E74-C919-4C18-B043-690AFBFADEE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9C27-C41C-4A4C-BF12-B1B3D34AD00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466E-0F29-4478-80CA-585FD7E7DC9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A9A5-7117-41E4-A779-F5F89C6636C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837C-E1EB-4E70-89F5-1B37052BD6B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60;&#1072;&#1081;&#1083;:Dragunskii0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66"/>
                </a:solidFill>
                <a:latin typeface="Century Schoolbook"/>
              </a:rPr>
              <a:t>Виктор   Юзефович  Драгунский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Century Schoolbook"/>
              </a:rPr>
              <a:t>«Одна  капля  убивает  лошадь»</a:t>
            </a:r>
            <a:endParaRPr b="0" lang="en-US" sz="44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Составила   учитель   начальных   классов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МОУ   Лицей№52</a:t>
            </a:r>
            <a:r>
              <a:rPr b="1" lang="en-US" sz="2400" spc="-1" strike="noStrike">
                <a:solidFill>
                  <a:srgbClr val="424456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г. Уф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Мамонтова  О.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иктор   Драгунский   родился 30/11  1913г. в   г. Нью – Йорке в   семье   эмигрантов, но   в  1925 г. переехал   в  Москву. Работал   актёром, сыграл   несколько   ролей   в   кино. Во   время   ВОВ служил  в   ополчении. Виктор Драгунский умер в 1972 году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исателя похоронил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Москв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916520" y="1904760"/>
            <a:ext cx="3929040" cy="4190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Dragunskii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700280"/>
            <a:ext cx="3632400" cy="4464000"/>
          </a:xfrm>
          <a:prstGeom prst="rect">
            <a:avLst/>
          </a:prstGeom>
          <a:ln w="0">
            <a:noFill/>
          </a:ln>
        </p:spPr>
      </p:pic>
      <p:sp>
        <p:nvSpPr>
          <p:cNvPr id="382" name="WordArt 11"/>
          <p:cNvSpPr txBox="1"/>
          <p:nvPr/>
        </p:nvSpPr>
        <p:spPr>
          <a:xfrm>
            <a:off x="1835280" y="549360"/>
            <a:ext cx="5473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ография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3927600" cy="4190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  1959  года  пишет   весёлые   рассказы  про   Дениса   Кораблёва – «Денискины  рассказы». Героя   смешных   историй автор   назвал   в   честь   сына. Все   знают   эти  истори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По  секрету  всему  свету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Капитан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Пожар   во   флигеле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Девочка на   шаре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Заколдованная  буква»  и  др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6438960" y="2247840"/>
            <a:ext cx="885600" cy="1333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390760" cy="2595600"/>
          </a:xfrm>
          <a:prstGeom prst="rect">
            <a:avLst/>
          </a:prstGeom>
          <a:ln w="0">
            <a:noFill/>
          </a:ln>
        </p:spPr>
      </p:pic>
      <p:sp>
        <p:nvSpPr>
          <p:cNvPr id="387" name="WordArt 8"/>
          <p:cNvSpPr txBox="1"/>
          <p:nvPr/>
        </p:nvSpPr>
        <p:spPr>
          <a:xfrm>
            <a:off x="1332000" y="260280"/>
            <a:ext cx="6335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3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ёлые   рассказы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3300"/>
              </a:solidFill>
              <a:latin typeface="Century Schoolbook"/>
            </a:endParaRPr>
          </a:p>
        </p:txBody>
      </p:sp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24000" cy="3097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2"/>
          <a:stretch/>
        </p:blipFill>
        <p:spPr>
          <a:xfrm>
            <a:off x="5985000" y="1905120"/>
            <a:ext cx="1793880" cy="2019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2948040" cy="3213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"/>
          <p:cNvPicPr/>
          <p:nvPr/>
        </p:nvPicPr>
        <p:blipFill>
          <a:blip r:embed="rId4"/>
          <a:stretch/>
        </p:blipFill>
        <p:spPr>
          <a:xfrm>
            <a:off x="4716360" y="3645000"/>
            <a:ext cx="2454480" cy="2997000"/>
          </a:xfrm>
          <a:prstGeom prst="rect">
            <a:avLst/>
          </a:prstGeom>
          <a:ln w="0">
            <a:noFill/>
          </a:ln>
        </p:spPr>
      </p:pic>
      <p:sp>
        <p:nvSpPr>
          <p:cNvPr id="393" name="WordArt 11"/>
          <p:cNvSpPr txBox="1"/>
          <p:nvPr/>
        </p:nvSpPr>
        <p:spPr>
          <a:xfrm>
            <a:off x="1476360" y="333360"/>
            <a:ext cx="676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юбимые   книги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a50021"/>
                </a:solidFill>
                <a:latin typeface="Century Schoolbook"/>
              </a:rPr>
              <a:t>Объясни</a:t>
            </a:r>
            <a:r>
              <a:rPr b="0" i="1" lang="ru-RU" sz="4800" spc="-1" strike="noStrike">
                <a:solidFill>
                  <a:srgbClr val="a50021"/>
                </a:solidFill>
                <a:latin typeface="Century Schoolbook"/>
              </a:rPr>
              <a:t>  </a:t>
            </a:r>
            <a:r>
              <a:rPr b="0" i="1" lang="ru-RU" sz="6000" spc="-1" strike="noStrike">
                <a:solidFill>
                  <a:srgbClr val="a50021"/>
                </a:solidFill>
                <a:latin typeface="Century Schoolbook"/>
              </a:rPr>
              <a:t>слова</a:t>
            </a:r>
            <a:endParaRPr b="0" lang="en-US" sz="6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Никотин-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яд, содержащийся  в  табак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Папиросы-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гильза из папиросной бумаги, в которую засыпан измельчённый табак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Захудалый-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слабый, истощенный, хилый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Портсигар –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лоский   футляр, коробочка для переноски сигар , сигарет  или папирос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«Казбек» –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ершина  Кавказа; здесь: сорт  папирос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Мундштук -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вердая, свободная от табака часть папиросной гильзы, которую при курении берут в рот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WordArt 5"/>
          <p:cNvSpPr txBox="1"/>
          <p:nvPr/>
        </p:nvSpPr>
        <p:spPr>
          <a:xfrm>
            <a:off x="1908000" y="189000"/>
            <a:ext cx="52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Century Schoolbook"/>
              </a:rPr>
              <a:t>Вопросы   к   тексту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gradFill rotWithShape="0">
            <a:gsLst>
              <a:gs pos="0">
                <a:srgbClr val="b9aaf8"/>
              </a:gs>
              <a:gs pos="100000">
                <a:srgbClr val="eff9f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 напугало  Дениса  в  словах  доктора  и  мам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 возмутило  мальчика  в  поведении  тети  Тамар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   Почему  мальчик  ругался  про  себя, а  не  вслух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)  Зачем  Денис  испортил  папиросы  отцу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авильно  ли  поступили  папа  и  гости, смеясь  над  Денисом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идно,  папа  ничего  не  понял.»  Что  он  должен  был  понят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то  тебе  понравился  в  этом  рассказ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 кто  не  понравился?  Почему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3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Century Schoolbook"/>
              </a:rPr>
              <a:t>Задание   на   дом</a:t>
            </a:r>
            <a:r>
              <a:rPr b="0" lang="ru-RU" sz="4000" spc="-1" strike="noStrike">
                <a:solidFill>
                  <a:srgbClr val="424456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Напиши  речь  о  вреде  курения. Какие   аргументы  ты  приведешь?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ожешь  проиллюстрировать  свою  речь   рисунком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0:51:26Z</dcterms:created>
  <dc:creator>Admin</dc:creator>
  <dc:description/>
  <dc:language>en-US</dc:language>
  <cp:lastModifiedBy>User</cp:lastModifiedBy>
  <dcterms:modified xsi:type="dcterms:W3CDTF">2011-10-12T12:23:21Z</dcterms:modified>
  <cp:revision>21</cp:revision>
  <dc:subject/>
  <dc:title>Слайд 1</dc:title>
</cp:coreProperties>
</file>